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ct" ContentType="image/x-pict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2B75-C9F1-42A5-ACDD-8501845706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AFDA-90B6-4A74-A7D3-67FD410C84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F856-3C86-4AF7-9FBB-86538B3DFF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49CF-C808-4123-8B9B-86418A6EB0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0677-4D3C-43D3-B303-2273213EFB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8F51-640A-41EA-97F2-DA7B3A3DE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38B7-13A1-42F8-B9B2-FFC984009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45C7-D0AA-4709-8139-BE9C6B8E52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33D5-0FFE-43D1-A245-E06F5CC529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0D54-4067-4845-96AF-086A929EB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32C7-6055-45E5-9159-E909F4442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1E93-1F64-4001-ADF7-9C9D3BB0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555B-11D4-4E7A-B4C8-C61E3E08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A177-A196-4E20-ABF0-4B4878F5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B4CD-89C3-45B4-82E9-E0ADBFA5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E0A6-85BE-4C8D-9F86-38343FE7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4E86-CFB2-450D-B0C6-3FB09049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CAEA-7997-4964-83E8-5C0A7987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7DE3-94AC-4361-A537-EC8AA60B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E41F-C3EF-4E83-9F7D-17DF2136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408B-429F-430A-9390-1009174B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1AF0-1447-477A-B7E8-4490B5BD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933D-BB95-46CD-85F6-274CD3A1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703F-9406-4D2C-8D12-AF338CD1E4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6EE6-AF49-4E0B-A307-B223183E6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photos_view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I HAVE A DREAM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391160" y="457200"/>
            <a:ext cx="1523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ugust 28, 196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066680" y="6019920"/>
            <a:ext cx="7010640" cy="520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y: Dominique T.  Molly M.  Luisa 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undred years before Lincoln took steps for equality, but a hundred years later African Americans are still fighting for equa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mlk06"/>
          <p:cNvPicPr/>
          <p:nvPr/>
        </p:nvPicPr>
        <p:blipFill>
          <a:blip r:embed="rId1"/>
          <a:srcRect l="0" t="0" r="30850" b="0"/>
          <a:stretch/>
        </p:blipFill>
        <p:spPr>
          <a:xfrm>
            <a:off x="0" y="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264px-Abraham_Lincoln_clip_art.svg.png"/>
          <p:cNvPicPr/>
          <p:nvPr/>
        </p:nvPicPr>
        <p:blipFill>
          <a:blip r:embed="rId2"/>
          <a:stretch/>
        </p:blipFill>
        <p:spPr>
          <a:xfrm>
            <a:off x="3370320" y="3733920"/>
            <a:ext cx="2116080" cy="2476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Constitution an Declaration of Independence, the promises that all men are created equal and the 3 basic rights are empty and were not carried out.  When African Americans want their rights to be proven, they are given not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mlk06"/>
          <p:cNvPicPr/>
          <p:nvPr/>
        </p:nvPicPr>
        <p:blipFill>
          <a:blip r:embed="rId1"/>
          <a:srcRect l="0" t="0" r="30850" b="0"/>
          <a:stretch/>
        </p:blipFill>
        <p:spPr>
          <a:xfrm>
            <a:off x="0" y="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j01742191.gif"/>
          <p:cNvPicPr/>
          <p:nvPr/>
        </p:nvPicPr>
        <p:blipFill>
          <a:blip r:embed="rId2"/>
          <a:stretch/>
        </p:blipFill>
        <p:spPr>
          <a:xfrm>
            <a:off x="5059440" y="4311720"/>
            <a:ext cx="2413080" cy="2298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ime to take action is now.  We cannot wait to fight for equa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mlk06"/>
          <p:cNvPicPr/>
          <p:nvPr/>
        </p:nvPicPr>
        <p:blipFill>
          <a:blip r:embed="rId1"/>
          <a:srcRect l="0" t="0" r="30850" b="0"/>
          <a:stretch/>
        </p:blipFill>
        <p:spPr>
          <a:xfrm>
            <a:off x="0" y="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alarm-clock-ringing.gif"/>
          <p:cNvPicPr/>
          <p:nvPr/>
        </p:nvPicPr>
        <p:blipFill>
          <a:blip r:embed="rId2"/>
          <a:stretch/>
        </p:blipFill>
        <p:spPr>
          <a:xfrm>
            <a:off x="3048120" y="2944800"/>
            <a:ext cx="3047760" cy="2846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der to be truly successful in gaining equality we must be strong and also peaceful.  Hatred will not solve the hatred we are fac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mlk06"/>
          <p:cNvPicPr/>
          <p:nvPr/>
        </p:nvPicPr>
        <p:blipFill>
          <a:blip r:embed="rId1"/>
          <a:srcRect l="0" t="0" r="30850" b="0"/>
          <a:stretch/>
        </p:blipFill>
        <p:spPr>
          <a:xfrm>
            <a:off x="0" y="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Peace+Symbol.png"/>
          <p:cNvPicPr/>
          <p:nvPr/>
        </p:nvPicPr>
        <p:blipFill>
          <a:blip r:embed="rId2"/>
          <a:stretch/>
        </p:blipFill>
        <p:spPr>
          <a:xfrm>
            <a:off x="2933640" y="3048120"/>
            <a:ext cx="3162240" cy="3373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must not leave this situation without hatred.  We must finish this now with forgiven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mlk06"/>
          <p:cNvPicPr/>
          <p:nvPr/>
        </p:nvPicPr>
        <p:blipFill>
          <a:blip r:embed="rId1"/>
          <a:srcRect l="0" t="0" r="30850" b="0"/>
          <a:stretch/>
        </p:blipFill>
        <p:spPr>
          <a:xfrm>
            <a:off x="0" y="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2743200" y="3886200"/>
            <a:ext cx="3657600" cy="2425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less we are equal and have the same rights, we will not be satisfied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mlk06"/>
          <p:cNvPicPr/>
          <p:nvPr/>
        </p:nvPicPr>
        <p:blipFill>
          <a:blip r:embed="rId1"/>
          <a:srcRect l="0" t="0" r="30850" b="0"/>
          <a:stretch/>
        </p:blipFill>
        <p:spPr>
          <a:xfrm>
            <a:off x="0" y="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images.jpg"/>
          <p:cNvPicPr/>
          <p:nvPr/>
        </p:nvPicPr>
        <p:blipFill>
          <a:blip r:embed="rId2"/>
          <a:stretch/>
        </p:blipFill>
        <p:spPr>
          <a:xfrm>
            <a:off x="2743200" y="2971800"/>
            <a:ext cx="3478320" cy="34783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believes that one day everyone will be equal and no one will be judged based on the color of their sk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mlk06"/>
          <p:cNvPicPr/>
          <p:nvPr/>
        </p:nvPicPr>
        <p:blipFill>
          <a:blip r:embed="rId1"/>
          <a:srcRect l="0" t="0" r="30850" b="0"/>
          <a:stretch/>
        </p:blipFill>
        <p:spPr>
          <a:xfrm>
            <a:off x="0" y="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2636640" cy="2649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is saying that even at the places with the most violent racist history freedom and equality will be present.  If America wants to be a great nation, everyone must be equ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mlk06"/>
          <p:cNvPicPr/>
          <p:nvPr/>
        </p:nvPicPr>
        <p:blipFill>
          <a:blip r:embed="rId1"/>
          <a:srcRect l="0" t="0" r="30850" b="0"/>
          <a:stretch/>
        </p:blipFill>
        <p:spPr>
          <a:xfrm>
            <a:off x="0" y="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flag_05.jpg"/>
          <p:cNvPicPr/>
          <p:nvPr/>
        </p:nvPicPr>
        <p:blipFill>
          <a:blip r:embed="rId2"/>
          <a:stretch/>
        </p:blipFill>
        <p:spPr>
          <a:xfrm>
            <a:off x="3127320" y="3809880"/>
            <a:ext cx="3044880" cy="2590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3:23:26Z</dcterms:created>
  <dc:creator>Admin</dc:creator>
  <dc:description/>
  <dc:language>en-US</dc:language>
  <cp:lastModifiedBy>Christine User</cp:lastModifiedBy>
  <dcterms:modified xsi:type="dcterms:W3CDTF">2010-06-02T02:06:56Z</dcterms:modified>
  <cp:revision>9</cp:revision>
  <dc:subject/>
  <dc:title>I HAVE A DREAM</dc:title>
</cp:coreProperties>
</file>